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1632-5C49-4FC0-A056-6BD9DFBDC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BB88-9848-416E-A046-B6F00336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F915-0D5A-4203-9C7A-432D01EF7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F927-0688-4AF3-A588-D97C378A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7166-72D7-40F2-9E4A-BFD84098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B981-36A0-45A5-96D6-7B37735B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6503-7D4F-4628-8BDB-A2BA830D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5B58-DF02-4FA9-8DFB-3B2EF533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B112-5510-4C78-96C1-5DC36767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37BF-27DF-47C6-B336-AC9C4C14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6AC5-6C84-48EB-8B54-7C4633D6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3F7E-6826-46FB-92A5-0DD642AD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5123-C2F4-4164-BC4B-5B52DC5369A4}" type="slidenum">
              <a:rPr b="0" lang="de-D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150012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000"/>
                </a:solidFill>
                <a:latin typeface="Calibri"/>
              </a:rPr>
              <a:t>Chaos macht Schule</a:t>
            </a:r>
            <a:br>
              <a:rPr sz="4400"/>
            </a:br>
            <a:br>
              <a:rPr sz="800"/>
            </a:br>
            <a:r>
              <a:rPr b="1" lang="de-DE" sz="4400" spc="-1" strike="noStrike">
                <a:solidFill>
                  <a:srgbClr val="ffc000"/>
                </a:solidFill>
                <a:latin typeface="Calibri"/>
              </a:rPr>
              <a:t>Internet und Privatsphä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57200" y="4285800"/>
            <a:ext cx="6400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Chaos Computer Club Hambur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Rainer  -  Lutz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Gerade Verbindung 8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Realität </a:t>
            </a:r>
            <a:r>
              <a:rPr b="0" lang="de-DE" sz="4000" spc="-1" strike="noStrike">
                <a:solidFill>
                  <a:srgbClr val="ffc000"/>
                </a:solidFill>
                <a:latin typeface="Wingdings"/>
                <a:ea typeface="Wingdings"/>
              </a:rPr>
              <a:t></a:t>
            </a: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 Virtualitä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Realitätsflucht als Gefahr, Symptom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Abwechslung der PC-Tätigkeiten nimmt a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Nutzungsdauer erhöht sich drastis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Offline“-Pflichten werden vernachlässig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Entgegenwirk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Gemeinsame Aktivitäten gemeinsam plan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Offline“-Erlebnisse, z.B. Wochenendurlau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Eventuell professionellen Rat such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8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28760" y="185724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ffffff"/>
                </a:solidFill>
                <a:latin typeface="Calibri"/>
              </a:rPr>
              <a:t>Fragen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ffffff"/>
                </a:solidFill>
                <a:latin typeface="Calibri"/>
              </a:rPr>
              <a:t>Anregungen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Untertitel 2"/>
          <p:cNvSpPr/>
          <p:nvPr/>
        </p:nvSpPr>
        <p:spPr>
          <a:xfrm>
            <a:off x="1357200" y="3071880"/>
            <a:ext cx="640080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Calibri"/>
              </a:rPr>
              <a:t>Chaos Computer Club Hamburg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Rainer  -  rainer@hamburg.ccc.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Lutz  -  lutz@hamburg.ccc.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Danke für Ihre Aufmerksamkei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28760" y="185724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Untertitel 2"/>
          <p:cNvSpPr/>
          <p:nvPr/>
        </p:nvSpPr>
        <p:spPr>
          <a:xfrm>
            <a:off x="1357200" y="3071880"/>
            <a:ext cx="640080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Vertragsabschlüsse per Interne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illenserklärung zwischen Vertragspartner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beschränkt geschäftsfähig ab 7 Jahren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(§108 BGB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Taschengeldparagraph (§ 110 BGB)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gilt erst nach Geschäftsabschluss (Zahlung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Fernabsatzgesetz (§ 35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iderruf ohne Angabe von Gründen bis zu zwei Wochen nach Vertragsabschlu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Was tun bei überraschenden Rechnungen, Abonnements etc.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ebseite des Unternehme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Klares Geschäftsmodell und Impressum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Irreführende Angaben ausdruck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Gültigem Vertragsabschluss widersprech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Nachweis über erbrachte Leistung und den Vorgang des Vertragsabschlusses einforder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ggf. Anwalt für Verbraucherrecht einschalt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Wer sind wir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Der Chaos Computer Club ist seit 25 Jahren eine Vereinigung von Hackern, Computerspezialisten und Datenschützer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ir beschäftigen uns meist mit interessanter Technik und experimentieren mit ihren Möglichkeiten, untersuchen aber auch ihre Gefahren und Risiken für die Gesellschaf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G:\internet.jpg"/>
          <p:cNvPicPr/>
          <p:nvPr/>
        </p:nvPicPr>
        <p:blipFill>
          <a:blip r:embed="rId2"/>
          <a:stretch/>
        </p:blipFill>
        <p:spPr>
          <a:xfrm>
            <a:off x="857160" y="642960"/>
            <a:ext cx="7429680" cy="5072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1600200"/>
            <a:ext cx="6972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Gerade Verbindung 8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3" descr="G:\chaosknoten.png"/>
          <p:cNvPicPr/>
          <p:nvPr/>
        </p:nvPicPr>
        <p:blipFill>
          <a:blip r:embed="rId3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Informationszeitalt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Computer als universelles Instru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issen, Bildung und aktuelle Nachricht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Kommunikation mit Freund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Spiel und Entertain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Internet als Medium vs. klassisches TV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Kein „Sendeprogramm“ mit Terminbindu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Verschiedene Blickwinkel auf Information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Nahezu beliebige Interaktion mögli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Online-Multiplayer-Spiel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z.B. „World of Warcraft“, „Flyff“, „Metin“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macht den Reiz au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Spiel in der Gemeinschaft („Community“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Erfolgserlebnisse nach bestandenen Abenteuern („Quests“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Riesige Spielwelten -&gt; viel zu entdeck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Phantastische Spielfiguren („Charaktere“) mit „übermenschlichen“ Fähigkeit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Karte von World of Warcraf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pic>
        <p:nvPicPr>
          <p:cNvPr id="71" name="Inhaltsplatzhalter 8" descr="WorldmapOfWarcraft_RC3.jpg"/>
          <p:cNvPicPr/>
          <p:nvPr/>
        </p:nvPicPr>
        <p:blipFill>
          <a:blip r:embed="rId3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Item- und Fähigkeiten-Ansich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Inhaltsplatzhalter 7" descr="Item_Socketing.jpg"/>
          <p:cNvPicPr/>
          <p:nvPr/>
        </p:nvPicPr>
        <p:blipFill>
          <a:blip r:embed="rId2"/>
          <a:stretch/>
        </p:blipFill>
        <p:spPr>
          <a:xfrm>
            <a:off x="1317600" y="1600200"/>
            <a:ext cx="65088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G:\chaosknoten.png"/>
          <p:cNvPicPr/>
          <p:nvPr/>
        </p:nvPicPr>
        <p:blipFill>
          <a:blip r:embed="rId3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Spielersicht in einer Instanz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pic>
        <p:nvPicPr>
          <p:cNvPr id="81" name="Inhaltsplatzhalter 8" descr="woww.jpg"/>
          <p:cNvPicPr/>
          <p:nvPr/>
        </p:nvPicPr>
        <p:blipFill>
          <a:blip r:embed="rId3"/>
          <a:stretch/>
        </p:blipFill>
        <p:spPr>
          <a:xfrm>
            <a:off x="1619280" y="1600200"/>
            <a:ext cx="5905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Online-Multiplayer-Spiel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Kritische Begleiterscheinun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Online-Verabredungsdruck im Te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Dauer einzelner „Quests“ bis zu 5 Stund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chstumsdruck , um den Anschluss 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an die Gruppe halten zu könn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Spielkomplexität begünstigt Suchtverhalt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Laufende Kosten: Monats-Abo (WoW) oder optionale „Charakterupgrades“ (Flyff)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9-04-01T16:51:42Z</dcterms:modified>
  <cp:revision>138</cp:revision>
  <dc:subject/>
  <dc:title>Folie 1</dc:title>
</cp:coreProperties>
</file>